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6314-376E-4468-B9F0-612BFC061E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nucleus enters the egg and moves to the egg nucleus. The 2 nuclei join together and then form a zyg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nucleus enters the egg and moves to the egg nucleus. The 2 nuclei join together and then form a zyg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breed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zards i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may not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or offspring may be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ie due to environ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breed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zards i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may not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or offspring may be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ie due to environ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sperm and egg are released to overcome ha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control behavior to have sperm and egg releas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sperm and egg are released to overcome ha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control behavior to have sperm and egg releas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egg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prote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chance of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 – development of unfertilized egg into an adult.- Bees &amp; Wa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egg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prote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chance of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 – development of unfertilized egg into an adult.- Bees &amp; Wa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757-5DAF-4497-98C7-470E4672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4D4-CE2B-40FE-BE2E-73DB1050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57A4-A58F-45A4-B97A-FA2C5AF8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706F-EE57-4183-9105-A2189DCE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4B1-69F6-4687-9A1A-1BB70E6F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5DFF-FC5B-43DE-9861-7A8E7FAA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5AF-5208-4F1E-8840-65A57833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C2C-C4E1-456A-9179-AD875CE6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072-9090-4943-B275-F505DE15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E3B-B373-41CB-8374-EA9A5005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259-79A3-465F-A114-4362D1CE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126-A9BB-431A-8EFA-C8891A1A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4B21-4342-4E29-A683-7A1CC4CDA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google.com/imgres?imgurl=http://comenius.susqu.edu/bi/202/DICTIONARY%2520OF%2520TERMS/ANIMALS/terms/figures/sperm%2Begg.jpg&amp;imgrefurl=http://comenius.susqu.edu/bi/202/DICTIONARY%2520OF%2520TERMS/O/oogamous.htm&amp;usg=__6_5EVVHfiqVHATJlArAvd_srYUQ=&amp;h=482&amp;w=501&amp;sz=43&amp;hl=en&amp;start=5&amp;tbnid=X3vFWaZLCnI3GM:&amp;tbnh=125&amp;tbnw=130&amp;prev=/images%3Fq%3Dsperm%2Band%2Begg%26gbv%3D2%26hl%3De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desireestanley.files.wordpress.com/2009/03/blue-bird-missouri.jpg&amp;imgrefurl=http://desireestanley.wordpress.com/2009/03/&amp;usg=__J1H5bAiZmjp4GCOTc-WyhLk_WXU=&amp;h=385&amp;w=400&amp;sz=34&amp;hl=en&amp;start=2&amp;tbnid=CUCp-71F-MTkOM:&amp;tbnh=119&amp;tbnw=124&amp;prev=/images%3Fq%3Dbird%26gbv%3D2%26hl%3Den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Sexual Reproduction in 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397160"/>
          <a:ext cx="7696080" cy="42415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Enviro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s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ny sperm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3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spermatogene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rm cells are(n) haploid/mono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ov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Few to many eg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32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ogene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gg cells are (n) haploid/mono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57200" y="2503440"/>
          <a:ext cx="403848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03440"/>
                    <a:ext cx="403848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85800" y="228600"/>
          <a:ext cx="7848720" cy="640080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0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Sma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Swims through liqu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Head, middle, &amp; tail (flagellu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Larger than a body c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Cannot move on its 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Round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24" descr="_42574053_egg_cell_ap_203b"/>
          <p:cNvPicPr/>
          <p:nvPr/>
        </p:nvPicPr>
        <p:blipFill>
          <a:blip r:embed="rId3"/>
          <a:stretch/>
        </p:blipFill>
        <p:spPr>
          <a:xfrm>
            <a:off x="5105520" y="762120"/>
            <a:ext cx="3276360" cy="245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sperm01"/>
          <p:cNvPicPr/>
          <p:nvPr/>
        </p:nvPicPr>
        <p:blipFill>
          <a:blip r:embed="rId4"/>
          <a:stretch/>
        </p:blipFill>
        <p:spPr>
          <a:xfrm>
            <a:off x="1371600" y="83808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perm nucleus enters the egg and moves to the egg nucleus. The 2 nuclei join together and then form a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zygot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uesc_05_img0247"/>
          <p:cNvPicPr/>
          <p:nvPr/>
        </p:nvPicPr>
        <p:blipFill>
          <a:blip r:embed="rId1"/>
          <a:stretch/>
        </p:blipFill>
        <p:spPr>
          <a:xfrm>
            <a:off x="838080" y="3200400"/>
            <a:ext cx="2492640" cy="323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sperm%2Beg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3429000"/>
            <a:ext cx="30481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imals that breed in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Many hazards i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perm and egg may not 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Eggs or offspring may be e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ay die due to environment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xyge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iamese-fighting-fish"/>
          <p:cNvPicPr/>
          <p:nvPr/>
        </p:nvPicPr>
        <p:blipFill>
          <a:blip r:embed="rId1"/>
          <a:stretch/>
        </p:blipFill>
        <p:spPr>
          <a:xfrm>
            <a:off x="6858000" y="1371600"/>
            <a:ext cx="16732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arge number of sperm and egg are released to overcom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rmones control behavior to have sperm and egg released at the sa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fish"/>
          <p:cNvPicPr/>
          <p:nvPr/>
        </p:nvPicPr>
        <p:blipFill>
          <a:blip r:embed="rId1"/>
          <a:stretch/>
        </p:blipFill>
        <p:spPr>
          <a:xfrm>
            <a:off x="2743200" y="3505320"/>
            <a:ext cx="365436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raft_lens1441580module8530159photo_Dog_Medicine_Side_Effects5"/>
          <p:cNvPicPr/>
          <p:nvPr/>
        </p:nvPicPr>
        <p:blipFill>
          <a:blip r:embed="rId1"/>
          <a:stretch/>
        </p:blipFill>
        <p:spPr>
          <a:xfrm>
            <a:off x="3581280" y="1523880"/>
            <a:ext cx="1371600" cy="125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Five dead sharks were found ..."/>
          <p:cNvPicPr/>
          <p:nvPr/>
        </p:nvPicPr>
        <p:blipFill>
          <a:blip r:embed="rId2"/>
          <a:stretch/>
        </p:blipFill>
        <p:spPr>
          <a:xfrm>
            <a:off x="5410080" y="3733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octopus"/>
          <p:cNvPicPr/>
          <p:nvPr/>
        </p:nvPicPr>
        <p:blipFill>
          <a:blip r:embed="rId3"/>
          <a:stretch/>
        </p:blipFill>
        <p:spPr>
          <a:xfrm>
            <a:off x="4572000" y="4952880"/>
            <a:ext cx="2476440" cy="162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blue-bird-missour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1523880"/>
            <a:ext cx="1333440" cy="1279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Two Headed Snake"/>
          <p:cNvPicPr/>
          <p:nvPr/>
        </p:nvPicPr>
        <p:blipFill>
          <a:blip r:embed="rId6"/>
          <a:stretch/>
        </p:blipFill>
        <p:spPr>
          <a:xfrm>
            <a:off x="6781680" y="1523880"/>
            <a:ext cx="137016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fertilization"/>
          <p:cNvPicPr/>
          <p:nvPr/>
        </p:nvPicPr>
        <p:blipFill>
          <a:blip r:embed="rId1"/>
          <a:stretch/>
        </p:blipFill>
        <p:spPr>
          <a:xfrm>
            <a:off x="3352680" y="3809880"/>
            <a:ext cx="25146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zygote"/>
          <p:cNvPicPr/>
          <p:nvPr/>
        </p:nvPicPr>
        <p:blipFill>
          <a:blip r:embed="rId1"/>
          <a:stretch/>
        </p:blipFill>
        <p:spPr>
          <a:xfrm>
            <a:off x="838080" y="27432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LOGGER-2"/>
          <p:cNvPicPr/>
          <p:nvPr/>
        </p:nvPicPr>
        <p:blipFill>
          <a:blip r:embed="rId2"/>
          <a:stretch/>
        </p:blipFill>
        <p:spPr>
          <a:xfrm>
            <a:off x="5943600" y="2362320"/>
            <a:ext cx="2079720" cy="3028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685800" y="5235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562720" y="5562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ternal Fer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wer egg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ll protec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ed chance of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arthenogenesis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– development of unfertilized egg into an adult.- Bees &amp; Wa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ees"/>
          <p:cNvPicPr/>
          <p:nvPr/>
        </p:nvPicPr>
        <p:blipFill>
          <a:blip r:embed="rId1"/>
          <a:stretch/>
        </p:blipFill>
        <p:spPr>
          <a:xfrm>
            <a:off x="2209680" y="4114800"/>
            <a:ext cx="3753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13:21Z</dcterms:created>
  <dc:creator>bzemcik</dc:creator>
  <dc:description/>
  <dc:language>en-US</dc:language>
  <cp:lastModifiedBy>RomaK</cp:lastModifiedBy>
  <dcterms:modified xsi:type="dcterms:W3CDTF">2015-09-04T11:08:23Z</dcterms:modified>
  <cp:revision>8</cp:revision>
  <dc:subject/>
  <dc:title>Sexual Reproduction in Animals</dc:title>
</cp:coreProperties>
</file>